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45CF-DAEE-4A6E-879D-A42F4834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E93E-48B1-4DEC-8E1A-3B82954D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D549-4A9D-440F-AFC3-32164856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E697-169B-4174-9124-7CBB2A70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89B2-40B0-4CA5-905D-FAAC5593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769-EBA1-4951-9FF2-326C661C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3516-C501-45FC-9610-C03CD805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AAF4-CA9B-45FE-8089-DCFF3B8A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B19-C89D-4657-A8A8-86ADD628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7E43-73A9-449E-8017-FAC3487C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541-7A6F-4D3E-BC44-D88E6998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28EC-9AF2-4AB8-8C6C-947EF1A3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565D-9EF2-4585-984A-1A465BBA9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30492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urity you can taste, hydration you can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80773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"/>
              </a:rPr>
              <a:t>Smart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87472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Electrolyte enhance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4:23:16Z</dcterms:created>
  <dc:creator>WPS</dc:creator>
  <dc:description/>
  <dc:language>en-US</dc:language>
  <cp:lastModifiedBy>WPS</cp:lastModifiedBy>
  <dcterms:modified xsi:type="dcterms:W3CDTF">2008-06-02T13:41:32Z</dcterms:modified>
  <cp:revision>3</cp:revision>
  <dc:subject/>
  <dc:title>Slide 1</dc:title>
</cp:coreProperties>
</file>